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4.gif" ContentType="image/gif"/>
  <Override PartName="/ppt/media/image16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8E8BF-58C4-49C9-AC02-FB20AA00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C16F7-FCF9-4F52-A5D5-2B5F1DCF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45381-F5B1-4A99-9FA8-78DF6D6A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F64D4-A1B1-4D58-B506-543943BD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D470-CBBC-4312-8DBD-91854DAD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ACFA-68A5-4CC3-A1C1-3B3149E9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761B-07D3-475A-8BCB-47B33722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3F9C-E875-4134-816E-EAC57A18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1038-E584-4430-B15D-7B19809D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0FD1-520B-4377-AC02-7B78BD93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A5D3-CF3B-4A95-8C75-A93280F0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9FED5-077D-4CFA-B5EF-3EA39038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BCB0-85F6-42D2-8F1C-FA09B6DB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0259-D380-4FBF-A494-B8F63C74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80C2-1E5C-42E2-9B2B-F8F47AF3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ABC9-BB78-47C3-9F2B-D789DAE5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E2D7-457F-4B1F-85BC-86C7B5A8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875BF-8F54-40D4-A33D-471A018F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1F163-3D70-4BCF-A9DA-635FAB2B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B45CF-D137-4D19-82D7-E32848DE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09515-4965-48DA-AD4E-740CC761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FF9C4-9C93-4D7A-8DB2-D6559692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A1E31-4CB1-498D-9167-48A43CA6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19CB0-CDD1-4A2B-9E35-088845C3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4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" name="Group 4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2" name="AutoShape 2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AutoShape 3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AutoShape 4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AutoShape 5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AutoShape 6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AutoShape 7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AutoShape 8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AutoShape 9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AutoShape 10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AutoShape 11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AutoShape 12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AutoShape 13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AutoShape 14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AutoShape 15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AutoShape 16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AutoShape 17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AutoShape 18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AutoShape 19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AutoShape 20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AutoShape 21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AutoShape 22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AutoShape 23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AutoShape 24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AutoShape 25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AutoShape 26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AutoShape 27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AutoShape 28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AutoShape 29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AutoShape 30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AutoShape 31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AutoShape 32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AutoShape 33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AutoShape 34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AutoShape 35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AutoShape 36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AutoShape 37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AutoShape 38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AutoShape 39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AutoShape 40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AutoShape 41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AutoShape 42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Group 77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44" name="Rectangle 44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AutoShape 45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AutoShape 46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AutoShape 47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AutoShape 48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AutoShape 49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AutoShape 50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AutoShape 51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AutoShape 52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AutoShape 53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AutoShape 54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AutoShape 55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AutoShape 56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AutoShape 57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AutoShape 58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AutoShape 59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AutoShape 60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AutoShape 61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AutoShape 62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AutoShape 63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AutoShape 64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AutoShape 65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AutoShape 66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AutoShape 67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AutoShape 68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AutoShape 69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AutoShape 70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1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AutoShape 72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AutoShape 73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AutoShape 74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AutoShape 75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AutoShape 76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11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78" name="AutoShape 78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AutoShape 79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AutoShape 80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AutoShape 81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AutoShape 82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AutoShape 83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AutoShape 84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AutoShape 85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AutoShape 86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AutoShape 87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AutoShape 88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AutoShape 89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AutoShape 90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AutoShape 91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AutoShape 92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AutoShape 93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AutoShape 94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AutoShape 95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AutoShape 96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AutoShape 97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AutoShape 98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AutoShape 99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AutoShape 100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AutoShape 101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AutoShape 102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AutoShape 103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AutoShape 104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AutoShape 105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AutoShape 106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AutoShape 107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AutoShape 108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AutoShape 109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AutoShape 110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AutoShape 111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AutoShape 112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AutoShape 113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AutoShape 114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AutoShape 115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AutoShape 116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AutoShape 117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AutoShape 118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153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120" name="Rectangle 120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AutoShape 121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AutoShape 122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AutoShape 123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AutoShape 124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AutoShape 125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AutoShape 126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AutoShape 127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AutoShape 128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AutoShape 129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AutoShape 130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AutoShape 131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AutoShape 132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AutoShape 133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AutoShape 134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AutoShape 135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AutoShape 136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AutoShape 137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AutoShape 138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AutoShape 139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AutoShape 140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AutoShape 141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AutoShape 142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AutoShape 143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AutoShape 144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AutoShape 145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AutoShape 146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AutoShape 147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AutoShape 148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AutoShape 149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150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AutoShape 151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AutoShape 152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"/>
          </p:nvPr>
        </p:nvSpPr>
        <p:spPr>
          <a:xfrm>
            <a:off x="68580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2"/>
          </p:nvPr>
        </p:nvSpPr>
        <p:spPr>
          <a:xfrm>
            <a:off x="655308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8982-1573-479D-9A06-32A1538C4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3"/>
          </p:nvPr>
        </p:nvSpPr>
        <p:spPr>
          <a:xfrm>
            <a:off x="3124080" y="61718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54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95" name="Group 4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196" name="AutoShape 2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AutoShape 3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AutoShape 4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utoShape 5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6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AutoShape 7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AutoShape 8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utoShape 9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utoShape 10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AutoShape 11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AutoShape 12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AutoShape 13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14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AutoShape 15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AutoShape 16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AutoShape 17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AutoShape 18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19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AutoShape 20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AutoShape 21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AutoShape 22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AutoShape 23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AutoShape 24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AutoShape 25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AutoShape 26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AutoShape 27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AutoShape 28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AutoShape 29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30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AutoShape 31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AutoShape 32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AutoShape 33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AutoShape 34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35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AutoShape 36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AutoShape 37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AutoShape 38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AutoShape 39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AutoShape 40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AutoShape 41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AutoShape 42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77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238" name="Rectangle 44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45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AutoShape 46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AutoShape 47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AutoShape 48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AutoShape 49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50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AutoShape 51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AutoShape 52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AutoShape 53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AutoShape 54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AutoShape 55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AutoShape 56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AutoShape 57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AutoShape 58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AutoShape 59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AutoShape 60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AutoShape 61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62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AutoShape 63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AutoShape 64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AutoShape 65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AutoShape 66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67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AutoShape 68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AutoShape 69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AutoShape 70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71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AutoShape 72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AutoShape 73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AutoShape 74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AutoShape 75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AutoShape 76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11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272" name="AutoShape 78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AutoShape 79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AutoShape 80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AutoShape 81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AutoShape 82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AutoShape 83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AutoShape 84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AutoShape 85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AutoShape 86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AutoShape 87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AutoShape 88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89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AutoShape 90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AutoShape 91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AutoShape 92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AutoShape 93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94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AutoShape 95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AutoShape 96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AutoShape 97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AutoShape 98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99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AutoShape 100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AutoShape 101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AutoShape 102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AutoShape 103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104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AutoShape 105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AutoShape 106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AutoShape 107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AutoShape 108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109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AutoShape 110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AutoShape 111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AutoShape 112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AutoShape 113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114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AutoShape 115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AutoShape 116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AutoShape 117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AutoShape 118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153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314" name="Rectangle 120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AutoShape 121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AutoShape 122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AutoShape 123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AutoShape 124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AutoShape 125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AutoShape 126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AutoShape 127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AutoShape 128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AutoShape 129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AutoShape 130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AutoShape 131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AutoShape 132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AutoShape 133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AutoShape 134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AutoShape 135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AutoShape 136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AutoShape 137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AutoShape 138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AutoShape 139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AutoShape 140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AutoShape 141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AutoShape 142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143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AutoShape 144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AutoShape 145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AutoShape 146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AutoShape 147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AutoShape 148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AutoShape 149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Rectangle 150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AutoShape 151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AutoShape 152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E93C-6C2F-4A4D-B667-EA04C3FDD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Tara and Tiree</a:t>
            </a:r>
            <a:br>
              <a:rPr sz="6000"/>
            </a:b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Vocabulary and Amazing Words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74674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656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instinct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An ability an animal is born with that makes it act in a certain way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Picture 4" descr="cat_102"/>
          <p:cNvPicPr/>
          <p:nvPr/>
        </p:nvPicPr>
        <p:blipFill>
          <a:blip r:embed="rId1"/>
          <a:stretch/>
        </p:blipFill>
        <p:spPr>
          <a:xfrm>
            <a:off x="4495680" y="4038480"/>
            <a:ext cx="304812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skittish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Nervous and easily upse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3" name="Picture 4" descr="MCj04258200000[1]"/>
          <p:cNvPicPr/>
          <p:nvPr/>
        </p:nvPicPr>
        <p:blipFill>
          <a:blip r:embed="rId1"/>
          <a:stretch/>
        </p:blipFill>
        <p:spPr>
          <a:xfrm>
            <a:off x="5257800" y="3048120"/>
            <a:ext cx="1981080" cy="2025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MCj04298390000[1]"/>
          <p:cNvPicPr/>
          <p:nvPr/>
        </p:nvPicPr>
        <p:blipFill>
          <a:blip r:embed="rId2"/>
          <a:stretch/>
        </p:blipFill>
        <p:spPr>
          <a:xfrm>
            <a:off x="1752480" y="3276720"/>
            <a:ext cx="1851120" cy="1869840"/>
          </a:xfrm>
          <a:prstGeom prst="rect">
            <a:avLst/>
          </a:prstGeom>
          <a:ln w="0">
            <a:noFill/>
          </a:ln>
        </p:spPr>
      </p:pic>
      <p:pic>
        <p:nvPicPr>
          <p:cNvPr id="435" name="MacOS" descr=""/>
          <p:cNvPicPr/>
          <p:nvPr/>
        </p:nvPicPr>
        <p:blipFill>
          <a:blip r:embed="rId3"/>
          <a:stretch/>
        </p:blipFill>
        <p:spPr>
          <a:xfrm>
            <a:off x="81532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1385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blustery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en the wind blows hard and makes a lot of noise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Picture 5" descr="MCNA02276_0000[1]"/>
          <p:cNvPicPr/>
          <p:nvPr/>
        </p:nvPicPr>
        <p:blipFill>
          <a:blip r:embed="rId1"/>
          <a:stretch/>
        </p:blipFill>
        <p:spPr>
          <a:xfrm>
            <a:off x="6553080" y="3429000"/>
            <a:ext cx="970200" cy="765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6" descr="MCNA01476_0000[1]"/>
          <p:cNvPicPr/>
          <p:nvPr/>
        </p:nvPicPr>
        <p:blipFill>
          <a:blip r:embed="rId2"/>
          <a:stretch/>
        </p:blipFill>
        <p:spPr>
          <a:xfrm>
            <a:off x="1600200" y="3124080"/>
            <a:ext cx="4595760" cy="3330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" descr="MCNA01635_0000[1]"/>
          <p:cNvPicPr/>
          <p:nvPr/>
        </p:nvPicPr>
        <p:blipFill>
          <a:blip r:embed="rId3"/>
          <a:stretch/>
        </p:blipFill>
        <p:spPr>
          <a:xfrm>
            <a:off x="6248520" y="685800"/>
            <a:ext cx="1906560" cy="1446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MCj02501010000[1]"/>
          <p:cNvPicPr/>
          <p:nvPr/>
        </p:nvPicPr>
        <p:blipFill>
          <a:blip r:embed="rId4"/>
          <a:stretch/>
        </p:blipFill>
        <p:spPr>
          <a:xfrm>
            <a:off x="762120" y="380880"/>
            <a:ext cx="1047600" cy="1422360"/>
          </a:xfrm>
          <a:prstGeom prst="rect">
            <a:avLst/>
          </a:prstGeom>
          <a:ln w="0">
            <a:noFill/>
          </a:ln>
        </p:spPr>
      </p:pic>
      <p:pic>
        <p:nvPicPr>
          <p:cNvPr id="442" name="MacOS" descr=""/>
          <p:cNvPicPr/>
          <p:nvPr/>
        </p:nvPicPr>
        <p:blipFill>
          <a:blip r:embed="rId5"/>
          <a:stretch/>
        </p:blipFill>
        <p:spPr>
          <a:xfrm>
            <a:off x="80773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45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9089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avalanche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en a lot of snow suddenly slides down a mountain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Picture 6" descr="eagle_roadhit_020306"/>
          <p:cNvPicPr/>
          <p:nvPr/>
        </p:nvPicPr>
        <p:blipFill>
          <a:blip r:embed="rId1"/>
          <a:stretch/>
        </p:blipFill>
        <p:spPr>
          <a:xfrm>
            <a:off x="2286000" y="350532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7" descr=""/>
          <p:cNvPicPr/>
          <p:nvPr/>
        </p:nvPicPr>
        <p:blipFill>
          <a:blip r:embed="rId2"/>
          <a:stretch/>
        </p:blipFill>
        <p:spPr>
          <a:xfrm>
            <a:off x="79246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2669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fast-paced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Happening very quickly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9" name="MacOS" descr=""/>
          <p:cNvPicPr/>
          <p:nvPr/>
        </p:nvPicPr>
        <p:blipFill>
          <a:blip r:embed="rId1"/>
          <a:stretch/>
        </p:blipFill>
        <p:spPr>
          <a:xfrm>
            <a:off x="8077320" y="609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MCj00787150000[1]"/>
          <p:cNvPicPr/>
          <p:nvPr/>
        </p:nvPicPr>
        <p:blipFill>
          <a:blip r:embed="rId2"/>
          <a:stretch/>
        </p:blipFill>
        <p:spPr>
          <a:xfrm>
            <a:off x="1828800" y="2971800"/>
            <a:ext cx="2330280" cy="2895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MCj02305440000[1]"/>
          <p:cNvPicPr/>
          <p:nvPr/>
        </p:nvPicPr>
        <p:blipFill>
          <a:blip r:embed="rId3"/>
          <a:stretch/>
        </p:blipFill>
        <p:spPr>
          <a:xfrm>
            <a:off x="5181480" y="2971800"/>
            <a:ext cx="2565360" cy="236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59162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Vocabulary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brave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olla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slippe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600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brave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Not afraid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Picture 8" descr="MCj04298990000[1]"/>
          <p:cNvPicPr/>
          <p:nvPr/>
        </p:nvPicPr>
        <p:blipFill>
          <a:blip r:embed="rId1"/>
          <a:stretch/>
        </p:blipFill>
        <p:spPr>
          <a:xfrm>
            <a:off x="4038480" y="2438280"/>
            <a:ext cx="3832200" cy="36435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MCj04104350000[1]"/>
          <p:cNvPicPr/>
          <p:nvPr/>
        </p:nvPicPr>
        <p:blipFill>
          <a:blip r:embed="rId2"/>
          <a:stretch/>
        </p:blipFill>
        <p:spPr>
          <a:xfrm>
            <a:off x="838080" y="3200400"/>
            <a:ext cx="2259000" cy="2527200"/>
          </a:xfrm>
          <a:prstGeom prst="rect">
            <a:avLst/>
          </a:prstGeom>
          <a:ln w="0">
            <a:noFill/>
          </a:ln>
        </p:spPr>
      </p:pic>
      <p:pic>
        <p:nvPicPr>
          <p:cNvPr id="398" name="MacOS" descr=""/>
          <p:cNvPicPr/>
          <p:nvPr/>
        </p:nvPicPr>
        <p:blipFill>
          <a:blip r:embed="rId3"/>
          <a:stretch/>
        </p:blipFill>
        <p:spPr>
          <a:xfrm>
            <a:off x="79246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2033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collar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A band that is put around the neck of a dog or other pet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1" name="Picture 4" descr="MCAN02347_0000[1]"/>
          <p:cNvPicPr/>
          <p:nvPr/>
        </p:nvPicPr>
        <p:blipFill>
          <a:blip r:embed="rId1"/>
          <a:stretch/>
        </p:blipFill>
        <p:spPr>
          <a:xfrm>
            <a:off x="2362320" y="3733920"/>
            <a:ext cx="4195800" cy="2133360"/>
          </a:xfrm>
          <a:prstGeom prst="rect">
            <a:avLst/>
          </a:prstGeom>
          <a:ln w="0">
            <a:noFill/>
          </a:ln>
        </p:spPr>
      </p:pic>
      <p:sp>
        <p:nvSpPr>
          <p:cNvPr id="402" name="Line 5"/>
          <p:cNvSpPr/>
          <p:nvPr/>
        </p:nvSpPr>
        <p:spPr>
          <a:xfrm flipH="1">
            <a:off x="6324480" y="3429000"/>
            <a:ext cx="198144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80010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3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357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slipped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To slide suddenly and unexpectedly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6" name="Picture 5" descr="MCj02861180000[1]"/>
          <p:cNvPicPr/>
          <p:nvPr/>
        </p:nvPicPr>
        <p:blipFill>
          <a:blip r:embed="rId1"/>
          <a:stretch/>
        </p:blipFill>
        <p:spPr>
          <a:xfrm>
            <a:off x="5181480" y="3124080"/>
            <a:ext cx="2544840" cy="2678400"/>
          </a:xfrm>
          <a:prstGeom prst="rect">
            <a:avLst/>
          </a:prstGeom>
          <a:ln w="0">
            <a:noFill/>
          </a:ln>
        </p:spPr>
      </p:pic>
      <p:pic>
        <p:nvPicPr>
          <p:cNvPr id="407" name="MacOS" descr=""/>
          <p:cNvPicPr/>
          <p:nvPr/>
        </p:nvPicPr>
        <p:blipFill>
          <a:blip r:embed="rId2"/>
          <a:stretch/>
        </p:blipFill>
        <p:spPr>
          <a:xfrm>
            <a:off x="7620120" y="76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7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089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Amazing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courageou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hazard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rescue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instinct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skittish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blustery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avalanche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fast-paced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68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68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68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68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courageous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Full of courage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Picture 4" descr="MPj04222430000[1]"/>
          <p:cNvPicPr/>
          <p:nvPr/>
        </p:nvPicPr>
        <p:blipFill>
          <a:blip r:embed="rId1"/>
          <a:stretch/>
        </p:blipFill>
        <p:spPr>
          <a:xfrm>
            <a:off x="5334120" y="1905120"/>
            <a:ext cx="2541600" cy="3809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MCj04280830000[1]"/>
          <p:cNvPicPr/>
          <p:nvPr/>
        </p:nvPicPr>
        <p:blipFill>
          <a:blip r:embed="rId2"/>
          <a:stretch/>
        </p:blipFill>
        <p:spPr>
          <a:xfrm>
            <a:off x="2057400" y="2819520"/>
            <a:ext cx="2197080" cy="2574720"/>
          </a:xfrm>
          <a:prstGeom prst="rect">
            <a:avLst/>
          </a:prstGeom>
          <a:ln w="0">
            <a:noFill/>
          </a:ln>
        </p:spPr>
      </p:pic>
      <p:pic>
        <p:nvPicPr>
          <p:cNvPr id="415" name="MacOS" descr=""/>
          <p:cNvPicPr/>
          <p:nvPr/>
        </p:nvPicPr>
        <p:blipFill>
          <a:blip r:embed="rId3"/>
          <a:stretch/>
        </p:blipFill>
        <p:spPr>
          <a:xfrm>
            <a:off x="815328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0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2020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hazard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something dangerous.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Picture 4" descr="MCj02807140000[1]"/>
          <p:cNvPicPr/>
          <p:nvPr/>
        </p:nvPicPr>
        <p:blipFill>
          <a:blip r:embed="rId1"/>
          <a:stretch/>
        </p:blipFill>
        <p:spPr>
          <a:xfrm>
            <a:off x="3276720" y="3200400"/>
            <a:ext cx="2182680" cy="26082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MCj02959610000[1]"/>
          <p:cNvPicPr/>
          <p:nvPr/>
        </p:nvPicPr>
        <p:blipFill>
          <a:blip r:embed="rId2"/>
          <a:stretch/>
        </p:blipFill>
        <p:spPr>
          <a:xfrm>
            <a:off x="1219320" y="2819520"/>
            <a:ext cx="2022480" cy="1828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MCj00978410000[1]"/>
          <p:cNvPicPr/>
          <p:nvPr/>
        </p:nvPicPr>
        <p:blipFill>
          <a:blip r:embed="rId3"/>
          <a:stretch/>
        </p:blipFill>
        <p:spPr>
          <a:xfrm>
            <a:off x="6324480" y="3048120"/>
            <a:ext cx="1793880" cy="1693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"/>
          <p:cNvPicPr/>
          <p:nvPr/>
        </p:nvPicPr>
        <p:blipFill>
          <a:blip r:embed="rId4"/>
          <a:stretch/>
        </p:blipFill>
        <p:spPr>
          <a:xfrm>
            <a:off x="81532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4523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rescue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Saving someone or something from danger.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Picture 4" descr="MCj02903540000[1]"/>
          <p:cNvPicPr/>
          <p:nvPr/>
        </p:nvPicPr>
        <p:blipFill>
          <a:blip r:embed="rId1"/>
          <a:stretch/>
        </p:blipFill>
        <p:spPr>
          <a:xfrm>
            <a:off x="6934320" y="3505320"/>
            <a:ext cx="1339560" cy="1427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MCBD05084_0000[1]"/>
          <p:cNvPicPr/>
          <p:nvPr/>
        </p:nvPicPr>
        <p:blipFill>
          <a:blip r:embed="rId2"/>
          <a:stretch/>
        </p:blipFill>
        <p:spPr>
          <a:xfrm>
            <a:off x="4114800" y="3352680"/>
            <a:ext cx="2197080" cy="2897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MCTN01338_0000[1]"/>
          <p:cNvPicPr/>
          <p:nvPr/>
        </p:nvPicPr>
        <p:blipFill>
          <a:blip r:embed="rId3"/>
          <a:stretch/>
        </p:blipFill>
        <p:spPr>
          <a:xfrm>
            <a:off x="1295280" y="3962520"/>
            <a:ext cx="1441440" cy="20286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"/>
          <p:cNvPicPr/>
          <p:nvPr/>
        </p:nvPicPr>
        <p:blipFill>
          <a:blip r:embed="rId4"/>
          <a:stretch/>
        </p:blipFill>
        <p:spPr>
          <a:xfrm>
            <a:off x="7620120" y="838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6707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16:32:32Z</dcterms:created>
  <dc:creator> </dc:creator>
  <dc:description/>
  <cp:keywords/>
  <dc:language>en-US</dc:language>
  <cp:lastModifiedBy>Laura McDow</cp:lastModifiedBy>
  <dcterms:modified xsi:type="dcterms:W3CDTF">2010-07-29T09:26:31Z</dcterms:modified>
  <cp:revision>3</cp:revision>
  <dc:subject/>
  <dc:title>Tara and Tiree Vocabulary and Amazing Wor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21033</vt:lpwstr>
  </property>
</Properties>
</file>